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52FD-3630-46BC-9314-AD7527D1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A5A-8B77-4F47-9981-E1E538B8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A6A-5F3D-4587-AEDA-6E44F792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4BA-565C-43D8-B366-C823257C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34F9-8A14-44DE-BD9A-60AFB11B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61C-9648-47BC-9C5D-2F564C50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892E-7758-4346-AF00-6C639981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D6DC-46FD-4E23-939A-DC52A75B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1BF-B8A0-4A32-8627-EB8B4DDD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331-F08C-4E7E-A085-5ECF9544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10E9-8AE4-4E0D-937F-5376AA7E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826B-BA38-4AB8-8ACF-A3D264A1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F7E5-0E4E-46F9-880C-D8DE42C82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olf Hitl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 Eric Fischl &amp; Travis Cy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1889 in Buaunau Aus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ooped out of high school in 19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an early age anti-Semite of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nteered in Bavarian Army in 1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award bravery medals in 19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promoted to private first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inded for a year in gas attack from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ed as a political spokesman and agent in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attention at a public speaker in 19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attempt to control government in early 2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se to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January 30, 1933, Hitler was appointed chancel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1, 1933 boycotted anti-Jew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passed April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liminating Jews in public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recognized party in Germany (Naz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commander in chief of the Wehrmacht (German arm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Germans took over Austria by force on March 13, 1938, nearly 200,000 Jews were added to the Rei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iminating the J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million Jews killed between 1942- 19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them for medical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33, SS man killed and arreste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Jews killed than S.U. POW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chwitz was biggest of Consecration Cam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sonal Success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 of state dictator of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Nazi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 of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 I H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 of “Mein Kampf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 for President of Germany in 19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nominee for peace prize for efforts to help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ous Qu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rmany will either be a world power or will not be at al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f today I stand here as a revolutionary, it is as a revolutionary against the Rev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t is not truth that matters, but victo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ccess is the sole earthly judge of right and wro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art of leadership… consists in consolidating the attention of the people against a single adversary and taking care that nothing will split up that attention”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44:57Z</dcterms:created>
  <dc:creator>10704</dc:creator>
  <dc:description/>
  <dc:language>en-US</dc:language>
  <cp:lastModifiedBy>10704</cp:lastModifiedBy>
  <dcterms:modified xsi:type="dcterms:W3CDTF">2009-12-17T15:18:43Z</dcterms:modified>
  <cp:revision>6</cp:revision>
  <dc:subject/>
  <dc:title>Adolf Hitler </dc:title>
</cp:coreProperties>
</file>